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D45-7A97-4BC0-A1CE-BC445578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C69-D096-4D3F-91C6-5686DA68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FD5-5522-4D29-9410-F8531991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038-669D-4171-BA1E-9F8EE270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EC4-7F47-4B86-82D6-DA9D0650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3F3-4722-4013-B627-25AE58C3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776-6205-4F66-A767-1EFE69F7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750-9F38-4B0C-862E-A080BA23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8D2-744D-4174-97F0-3DBDE989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E56-7C3A-4216-8242-441BE2FA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F4E-6D8C-46CD-9ED5-5437EDC2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648-BEB0-4086-B3CC-4FFE8A04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BAA1-5510-4EE2-AC48-AB1D1FC28FB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كل على الله تعالى والثقة به جل وعل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2205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في أوقاتها وأدائها كاملة بشروطها وواجباتها مع استحضار القلب وخشوع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كبر علامات خشي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يحجز صاحبه عن فعل الذنوب و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9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6156360" y="285264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ذكر الله وجلت قلوبه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05928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تليت عليهم آياته زادتهم إيمانا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ربهم يتوكل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6084720" y="422100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الصلا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987640" y="4373640"/>
            <a:ext cx="234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ما رزقهم الله ينفق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50920" y="995400"/>
            <a:ext cx="8532720" cy="552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250920" y="2133720"/>
            <a:ext cx="66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وقعت في (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 ) سنة (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للهجر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3500280"/>
            <a:ext cx="66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ترجاع المسلمين لأموالهم التي نهبها كفار قريش من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71280" y="4653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عدد المسلم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1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 عدد المشرك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000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1619280" y="5877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تصار المسلمين وهزيمة المشرك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8138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23920" y="580536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لف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ب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تف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284120" y="1052640"/>
            <a:ext cx="7631280" cy="58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081080" y="3213000"/>
            <a:ext cx="783432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5"/>
          <a:stretch/>
        </p:blipFill>
        <p:spPr>
          <a:xfrm>
            <a:off x="2793960" y="5229360"/>
            <a:ext cx="612144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03040" y="1628640"/>
            <a:ext cx="869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لاوة الآي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ذكر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وكل على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16000" y="3860640"/>
            <a:ext cx="8691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من التوكل الأخذ بالأسبا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96"/>
          <a:stretch/>
        </p:blipFill>
        <p:spPr>
          <a:xfrm>
            <a:off x="250920" y="1998720"/>
            <a:ext cx="862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822320"/>
            <a:ext cx="86900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60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8760" y="1197000"/>
            <a:ext cx="8825040" cy="15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8028000" y="186516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250920" y="2430360"/>
            <a:ext cx="8642160" cy="42386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ازل في الجن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9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1052640"/>
            <a:ext cx="8665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كر عبادة بن الصامت أنه في غزوة بدر اختلفوا في النفل فقسمه رسول الله بين المسلمين سواس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539640" y="958680"/>
            <a:ext cx="568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شريع حق خاص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لرسو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2205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صلاح ذات ال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أن يكون المؤمنون إخوة متحا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طاعة الله ورسو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3700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ا وقر في القلب وصدقته الأعم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157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ز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طاع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5877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نقص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